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9760-4D23-44BE-801F-0E6CC4F0E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B9B6-A7EF-4022-A802-E48F2FB8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3A1AB-8CD2-4192-AF33-EBD3FDA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A976B-62A1-4592-B543-F0786901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ABD808-3D99-448D-97F5-5F4DF2A8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A2885-05BF-408C-B669-A9024C5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97A872-6C31-4B34-80A2-85AFACDE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C7D78-BF48-4352-96E9-CDDE91D2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9A66B-5961-42EA-84BF-93FDC65F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8A5ECE-6B6D-46E0-AD65-F447467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D2F20-62CD-474C-939B-BC4C519DB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9EAF-B0E6-4BFC-B9C5-DD43DB5A4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0F39-9B1E-4FF9-ACD6-E22486C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BCD7-3E08-408B-A40E-2472F1E7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B58CF-671D-45F8-B924-37A874E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71FC-D30C-4C65-B756-B0965CB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3C20-A208-4703-898E-380CCD59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FF24-69AF-4469-A857-8A7CA993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882F4-DEE0-4FAF-85EE-F463C42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E923-62EA-406E-BAFA-8DB9975A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3D0B1-9FE7-495E-8081-3EE3A34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64B1-8138-4BC3-8148-8905D514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47F9-7829-43CF-8876-9540DF9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D459-A748-49F4-A668-F7B165B32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5498-C849-44A3-BECC-FE7A134E7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036AE-0B17-4DC8-A262-62D664C30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477DB-9F9D-4475-9AB1-F5D50AD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C72B2-A468-44E4-BBCC-0E2F742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83776-15B6-4FBF-B4D0-27BC350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1011F-E5D6-4CF2-BC05-25F2051A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FC00C-CF72-4CFE-8AA3-B0F6F78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CC6780-E39F-4FC8-9C02-1064850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BFD15-5724-470F-A48D-D2A0F98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BED64-1CCD-47AA-A8FD-106DBE8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2D06-5BC3-49DF-A77E-DC6B55AE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A9E21-5338-437E-8390-5030037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1D1A5-99B1-43CB-82D9-D921185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FAFD9-0161-4235-981D-96BC32937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74562-5DF2-403F-8F24-4B3C85827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2E721-5403-4D46-924A-E53FB41D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F787E-EC6E-4FEB-A005-780FC31B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E5342-1063-4937-96FC-73471A7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3E8BE-AD30-4AE0-9BA4-080CB4F3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CF6D3-1895-492E-9A42-69527D34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E0B3F-7857-4A49-A14C-76D1698F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2565D-F122-4251-B90A-E382C07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4216B-2F7E-4896-9C0B-DAE9A32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2E5B4-3E88-4B31-A71E-3A54CD2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EF484-767E-4563-8A48-30D9B10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5AD77-7A1F-4964-BD3A-60BA469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ADDF7-9E2C-4DA6-AC5D-8F901B67C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B501B-C101-4784-B600-A7F547504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9548B-4CA5-4468-AC46-89195E5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4028A-BEBC-4399-8256-4E59B3F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7831C-1801-4CCC-8998-464664D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B7BAF-93EC-4984-AD63-ED5C21E2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6ABE-E5E4-40B0-8BC2-AAFC243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74519-09AA-4AEC-AC0E-3FAD55E0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DD35D-93F1-4C83-AD36-B0D71E01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C6E0E-BD84-4D38-AD73-86DBA8CD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654F-BA4F-495B-A19A-737CDD30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6C8A8-00FF-4AD6-B1A3-8A3B8C96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61A6-797A-4A7A-96CA-12A4D2A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568F7-D7EE-4847-860E-9B46DDA09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4DCF3-5A71-47DB-BB29-D8AC653E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5E812-28C5-4352-B10A-490FA72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3082B-7033-4D46-9444-C8639CB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7F58-FE8A-4E6C-822D-47790ED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2B265-2E40-4284-9781-BDE3F8B8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95083-65EF-4803-AB73-EFF924B4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354D6-C154-4551-A580-9AAE81D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DB8CF-B637-4375-BA9E-675AEBD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EC7C0-A033-4626-BD3A-4FEF904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8A01C-AA05-44B4-B0EC-0BF1410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6479A-B84E-455E-8C18-B9984629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2A0A9-82EF-49B8-974B-83024E88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7883B-3CDF-4C46-A1BF-B8241659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0759C-81DA-4B65-95CC-30884F6F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C7E6-3EB4-4C10-9437-B988586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B6050-7980-40AD-AEDE-CFFE8819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97CE2-C9D0-41DB-8066-8C21DFB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81A46-492B-4D2F-B138-872C2EA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3B39C-6409-4E76-AC85-5D34428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18560-E848-43BC-AD3A-8FF7111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1C897-5DF3-4AAB-859F-7D5F1216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0C8DB-80E3-4D35-84C2-A701EAD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37B62-823C-42DC-9ED5-9DFB001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A82B-4ED1-448B-90E4-CDD082D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A592C-4AA9-409B-AEAA-DE8CE13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37EF-643D-4A85-BA89-567E8B15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64C61-182B-4E6D-B5EA-D7FAC17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761ED-43A2-4A84-94AC-830F096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23075-5E3E-40E7-8199-7E168AC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4D92-6249-47BB-8E68-DBA50BD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BB0BF-C2F0-4DFA-946C-1D3D261E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CEC7A-1F34-408E-B309-66CE259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BEE25-3632-430A-95A6-D04BBE1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BBF2C-25C7-41D3-ACC7-31565DE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6EBAA-476B-4F51-ADC8-7735F84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59A91-C511-431C-8459-F33898D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57FF9-5572-4DF7-BFB0-D4C5869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014CF-2353-46C5-B04D-1C1A9A3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582AA-84EA-4757-ADC9-88D75C40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37338-253A-4458-8A49-55D708D1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1F3D0-1E92-4C50-84C4-B00E8CBA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64D6E-D37A-4F74-9156-8F8AAA6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FC7D9-A6C6-4DB3-AE51-7BCF2EEE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19A06-F4A5-4705-8904-EC0C52F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1EE39-082B-474E-8694-7576D5C1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A94DD-CA62-4A59-8996-0EC8AE3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C32F3-ECB2-4A6C-870C-0875250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9082-C508-4C63-8D87-48E6BB25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FCF8F-AEC5-4589-9C2E-F9F83AE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0445D-AD2F-4C07-9F6E-7FC1C6B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D8321-4AF0-44B6-99E2-C05985F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29ABB-BF5A-4C10-9802-E83AA33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A618-66D4-4A49-99B1-0FF1C2DD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A105A-615E-4666-B1DF-19F025B3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59ED-278E-441D-86F7-B2ADFA12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681B4-F6EB-49C8-83CD-F575B6F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EC60D-C2CF-4468-94F0-F145F329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91677-B4E0-4AA6-A3F3-7233175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511D4-517F-4B13-B270-1338C54C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C8F2-2006-4757-90BB-E1FD2FBE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AA80B-A405-46F4-9BD1-A7888DF2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3DEAC-8976-47A6-B982-A94C479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FDB55-2391-4002-8986-0D2B2EE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FAFF9-8325-4267-BF0B-2FCF845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7B156-9E8B-4203-B999-6EE6A5D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BC3E1-DCA5-4D19-BBDB-2C18F350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DCC1E-3037-4CED-983C-E36AAE42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09FD3-A0DA-48E6-BAE1-B5FEBD7A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7A00E-CC06-406F-9B4D-239FE75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B7F19-2622-495B-A7BE-84ADC862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95EE-AF9F-4E30-AB68-D7246D9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3CA34-F4D4-4976-9C5A-60576F5B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E9609-F639-4083-99C7-AA93D5E1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EB9CE-783D-4B3B-8803-CC2886EC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7F838-E0B4-47A4-8FE5-1D1B722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01AE4-BDFE-478E-8CFB-4602ABF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CEF41-3CB7-43A8-9CB5-B8955D0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38EFF-68C2-4125-9E30-B48C818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E630E-5768-480E-AEAC-16E9B57D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BA783-F635-4AA3-9D9C-A629D38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67C74-6154-419C-AD68-2FA96108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B763F-F915-49DA-BA13-10D5A609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4A691-1305-4209-BD3B-3450FF82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E7D92-07BC-4F94-BE7E-1B814AC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134C2-8923-417E-98BF-FF77200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B5003-78B9-4154-ADF3-5850D80B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E5158-96B2-49F5-9CBE-D5E1FA4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96143-E169-4E21-A4A2-C2360A8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EEDEB-7FF3-44A8-A3C2-398CF60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D6B1D-823A-45D5-BC30-C535DE0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8B026-CA37-4D2B-912C-0CBABA4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1B8C5-224D-4ED4-B344-09B69769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F5E2-E12F-42BC-BDFE-D73E4A60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D8A68-EC12-4C81-AC3B-93E53CF6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A7779-7AC4-4797-B36F-C86F6F3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FBB72-9B89-4354-91CA-E2BFB42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43E55-F503-42C2-B9AA-C3204C94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C7787-3674-485E-87C9-9EECED9B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74351-1259-4DCE-A6CE-E65DCB8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06867-C8C8-46FB-9987-D8C9341C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71A0B-BE0C-4665-B320-E1DA6DF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33E55-2A24-42D9-A15D-3BC7034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C2DFA-8C34-4320-85F1-CB4C80F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99C46-F6EC-480D-805F-7F917F6D2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98076-B4A1-4FD2-BA77-F1A284BA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70963-F9AF-4A63-AB06-EB3E2F17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E2532-1EEB-4C65-969F-767305A9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71F94-3BB8-455A-985B-4DE33CA5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D1059-4D12-42A3-A9CB-DE835FA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748EF-1A40-4526-8799-9613472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35B57-3C4F-4029-90C3-3A57973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89B03-FEF9-44F2-8D8D-5E53355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5B58C-3479-4456-B1C0-C2210B2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5E6AB-2B04-4F03-B119-6A77F71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7F49B-6C8E-4660-A22C-9B5C7DE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13F26-5AA4-4D61-8E15-FD72948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867B1-1E6B-4EDD-8A3C-F36B5ED3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AFBDC-8B87-42FF-8AF9-CAE9DE5B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E07CD-5F54-4183-A4E2-1B12815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C35D9-642F-4002-8092-E5CD4884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07B64-9FA8-44D4-A1EB-62F37309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0C226-6DDE-43AB-BAE8-C8557E6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57002-72F5-417B-829A-85850B40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0704E-1988-4CD8-B1A5-9008484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A1E7F-4D39-4D10-AA27-B37CD8A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54128F-B68D-4323-92DF-4FFFB823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83B53-54BE-4931-A4EC-456207D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8E15C-DE05-4522-88AF-1CD2DFD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09FB4-FBE6-4780-8572-58E7C699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4A36F-49FE-4DC9-8CDD-F04AD47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65B2D-2AFE-4E60-A300-1D92238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F3B49-6303-4D38-9499-4CEAE6F2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79E58-1840-46DF-99C8-EFC564EF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9D72D-C0D0-42B0-A0E6-C892500B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DD3F2-18F1-4331-9F0A-83B74191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5961C-0A70-4052-A61E-8C515AB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BD0C3-3517-4F7D-8AE9-6624F21C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0B899-CEB6-4F74-BDF7-57E3B526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F4A77-5BE1-4B78-AB8A-D4AB580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27179-F443-4A98-8347-1600F0DC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833D3-318F-4819-B60F-EF4FECE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0DE8E-1F12-4F38-B505-6505BB4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A595F-1D7B-4651-B2DE-4BF2891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B56B04-DDD5-47D4-8535-43551DB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BF657-0B4A-43DC-8B23-CB34B90B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1EED9-5CFE-4A46-9496-3E359E85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BEF5E-8108-4CCE-B33D-0CEBBB19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B62E-A8A0-47DA-ADCB-8C603136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8070A-88FC-4AA3-8B91-89DE555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0F545-D414-4620-B490-29F6335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FBBDB-2D5E-4B6B-BCB7-7DF7AA9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57A84-FF2E-4823-8EE1-2DBE0FB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1D19C-3F5C-44C2-9635-E2E559C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6D5E8-866A-4845-9C02-7C6EDA1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94320-2DE9-4410-BF44-A8C1A0F68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C392-CCEA-4520-AA78-AA4E1A779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9F93-E1AD-4753-BC91-A3AE141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9037-3E38-4067-B0BF-A77EE122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15E0-549C-4291-910D-ED8EDA3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AE01-CDA4-47A0-9D12-AEED67C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7140-04AD-4B73-810C-C91B4688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5A25-A873-4FF2-81E1-0860A977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A7C2-3817-4458-933B-7360379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B081-BD9D-45BA-A73A-2D3DE77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0AF4-9F04-45E0-8FE5-3FB72784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0F0F-420E-40AF-B60D-127652E2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1F8A-8A0A-4FD0-BA09-C85BD1E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F6BF-4F60-42F7-9681-84204111C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A502B-4B46-44CE-865F-D807CAEEF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DE8D-18FA-49CC-B53B-DD14015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5EBF9-59E7-4CAF-8878-3A2A65AD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E1CD9-D058-4E05-B382-19F00DF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70D22-35FB-4DBB-A9F4-6828E34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0EB75-30AF-4969-8571-371D0460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4754D-FBD3-4E54-BB08-DBD4F4D6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06528-EF2D-4E59-8D99-21574C26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7B51E-A623-4414-B46A-3576EA79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1311F-21FF-4B32-BDE7-E4C094E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57412-6B23-45F6-8B09-5E54FEB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49D7C-CAA7-4431-911D-9AC101A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EB5E-2D7E-4388-AA80-A819D90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215DB-78A4-4DCF-BE1D-E294A25E2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AEA19-85CF-4CFE-A582-D2AD15198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C70DA-A01B-4EFA-B359-71383E59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4E804-EF8C-4B57-85F0-757A1450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DC4AB-AAAB-4355-B22E-97F26A2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E2D11-A27E-410E-9DAF-736C974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0E3D00-6346-4327-B407-6D7590B4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DF195-AE33-4D27-9982-259B26D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49656-C27C-4735-83B8-3752C8D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4CC84-9936-41D5-B1E7-054C7DC9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535C-BC3C-413E-8364-37BCE2C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C0604-5147-431F-9CBB-8FD5BF4E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D19FC-0A05-4C82-B774-006B536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12B07-920D-4B94-9328-CBF61FCE4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5BB0-EA07-4DDF-A4B5-A0C493D08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2FCA5-C340-4F7F-865F-8A328734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32E2-7EB9-411A-ADCA-7B7A8DF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10A25-2C51-4CE3-B829-99089A87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3B7D-06AF-439D-834C-51D9D405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075E-54A3-4368-B85C-2539D505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17FB-8263-4002-B30A-3263FA7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9CC0-8F42-4AD7-B3FF-5F2DD3F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A0FD-8122-4BD4-B27B-0779F453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1EC7-6999-41AA-B0E0-4895CD2B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4A39B-4B65-4D13-A711-803BAB1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52E4F-1031-4495-9333-57465A6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16D1-5444-4EBF-8916-6D186D270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05B8A-8B14-4E5F-8EAB-CA5055310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6A085-1AC3-420A-8155-CBB3E31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9C379-E283-4A01-BDF1-4AEC666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BFB64-5D4D-474A-AC75-33E0B5F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5B8DC-EDF4-4F81-97DF-CF0D5254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197A-BAE8-47CD-A0E3-89A2097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E1842-55B4-4A73-AF70-7DCEEF4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C632D-51A5-48A2-AEE1-D7BB9D84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47494-0CEF-4E4F-9F9E-69B5C4F0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AB6DA-47FA-4FF9-9AD6-6AA32B6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46540-2A2C-40B9-86AC-F465B6AB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1530D-5C80-4F87-8A28-3DCCDF8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0F27B-3072-4727-B12F-A71247B80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9EAE9E-91AF-4CDB-8F8E-020B064B9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8ABE16-8597-4086-BFAA-6EEFE3E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B479F-1AFA-4D8A-B853-2922A39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19BE-4F48-404A-8ED3-2087E1E16A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2D1-E966-4C0E-BA83-412B0B168E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43E-85B2-4B9D-B042-945AF3D39D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AC94-4910-4D21-98ED-6EC2966FBC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FFAD-7245-4227-9C3A-C6E587D7B7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2F2-0FFA-4AC2-BB6E-585B323CBD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911-706F-4083-B72D-7DD7786CAE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360-9740-4B74-A5D8-5151042FB1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8E87-9C90-480B-BA6E-37FFD18CDF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5478-FCA6-477B-BFF2-34A34D478E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DDB-8FD6-46D5-A91C-6B863D8585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183-F16A-4AC5-9710-6A730913FA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692-43B8-469C-862C-0FEDBCD91F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D00-8BFD-40AA-A3DE-339120B6FF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D464-6241-468D-BADB-F7A91EF8BA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5A3F-9DB8-49B1-9676-3E839891EF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4D6-8711-430C-B7EC-8152D18D63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82A-6736-4E69-A5A0-898F03E309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5B8-E2D5-4989-BF53-C6CA18079D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6AB-385D-404F-85B3-5BA223DF54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67DA-1A30-41C4-A9FA-EAC3523F51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4D9-CCB7-4059-92C0-C71E4096B8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9859-9084-4526-B0B6-383048E20C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86A-DF66-46A6-B20E-C30EAA99F4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9720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 法 和 除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444600" y="11124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整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224720" y="689040"/>
            <a:ext cx="6426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下面各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23×4=       230×4=       18×3=       7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54÷3=       540÷3=       60÷3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=      250÷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79"/>
          <p:cNvSpPr/>
          <p:nvPr/>
        </p:nvSpPr>
        <p:spPr>
          <a:xfrm>
            <a:off x="1787400" y="12794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79"/>
          <p:cNvSpPr/>
          <p:nvPr/>
        </p:nvSpPr>
        <p:spPr>
          <a:xfrm>
            <a:off x="4051440" y="12794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79"/>
          <p:cNvSpPr/>
          <p:nvPr/>
        </p:nvSpPr>
        <p:spPr>
          <a:xfrm>
            <a:off x="6076800" y="12938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9"/>
          <p:cNvSpPr/>
          <p:nvPr/>
        </p:nvSpPr>
        <p:spPr>
          <a:xfrm>
            <a:off x="8140680" y="12794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79"/>
          <p:cNvSpPr/>
          <p:nvPr/>
        </p:nvSpPr>
        <p:spPr>
          <a:xfrm>
            <a:off x="1771560" y="24289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79"/>
          <p:cNvSpPr/>
          <p:nvPr/>
        </p:nvSpPr>
        <p:spPr>
          <a:xfrm>
            <a:off x="3978360" y="2419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79"/>
          <p:cNvSpPr/>
          <p:nvPr/>
        </p:nvSpPr>
        <p:spPr>
          <a:xfrm>
            <a:off x="6227640" y="24192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79"/>
          <p:cNvSpPr/>
          <p:nvPr/>
        </p:nvSpPr>
        <p:spPr>
          <a:xfrm>
            <a:off x="8491680" y="2419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3852720" y="571680"/>
            <a:ext cx="66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先想一想笔算乘、除法应注意什么？再分析下面题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错误原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椭圆 24"/>
          <p:cNvSpPr/>
          <p:nvPr/>
        </p:nvSpPr>
        <p:spPr>
          <a:xfrm>
            <a:off x="7508880" y="144468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62"/>
          <p:cNvGrpSpPr/>
          <p:nvPr/>
        </p:nvGrpSpPr>
        <p:grpSpPr>
          <a:xfrm>
            <a:off x="6372360" y="1371600"/>
            <a:ext cx="1915920" cy="1732680"/>
            <a:chOff x="6372360" y="1371600"/>
            <a:chExt cx="1915920" cy="1732680"/>
          </a:xfrm>
        </p:grpSpPr>
        <p:sp>
          <p:nvSpPr>
            <p:cNvPr id="1022" name="Text Box 29"/>
            <p:cNvSpPr/>
            <p:nvPr/>
          </p:nvSpPr>
          <p:spPr>
            <a:xfrm>
              <a:off x="6372360" y="1816200"/>
              <a:ext cx="663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0"/>
            <p:cNvSpPr/>
            <p:nvPr/>
          </p:nvSpPr>
          <p:spPr>
            <a:xfrm>
              <a:off x="7010280" y="1816200"/>
              <a:ext cx="1278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 0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文本框 25"/>
            <p:cNvSpPr/>
            <p:nvPr/>
          </p:nvSpPr>
          <p:spPr>
            <a:xfrm>
              <a:off x="7021440" y="2158920"/>
              <a:ext cx="1084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5"/>
            <p:cNvSpPr/>
            <p:nvPr/>
          </p:nvSpPr>
          <p:spPr>
            <a:xfrm>
              <a:off x="6966000" y="2631960"/>
              <a:ext cx="10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文本框 25"/>
            <p:cNvSpPr/>
            <p:nvPr/>
          </p:nvSpPr>
          <p:spPr>
            <a:xfrm>
              <a:off x="7275600" y="257148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13" descr=""/>
            <p:cNvPicPr/>
            <p:nvPr/>
          </p:nvPicPr>
          <p:blipFill>
            <a:blip r:embed="rId1"/>
            <a:stretch/>
          </p:blipFill>
          <p:spPr>
            <a:xfrm>
              <a:off x="6850800" y="1827360"/>
              <a:ext cx="103320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文本框 24"/>
            <p:cNvSpPr/>
            <p:nvPr/>
          </p:nvSpPr>
          <p:spPr>
            <a:xfrm>
              <a:off x="7270920" y="137160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77"/>
          <p:cNvGrpSpPr/>
          <p:nvPr/>
        </p:nvGrpSpPr>
        <p:grpSpPr>
          <a:xfrm>
            <a:off x="2647800" y="1428840"/>
            <a:ext cx="1571760" cy="2037240"/>
            <a:chOff x="2647800" y="1428840"/>
            <a:chExt cx="1571760" cy="2037240"/>
          </a:xfrm>
        </p:grpSpPr>
        <p:sp>
          <p:nvSpPr>
            <p:cNvPr id="1030" name="文本框 20"/>
            <p:cNvSpPr/>
            <p:nvPr/>
          </p:nvSpPr>
          <p:spPr>
            <a:xfrm>
              <a:off x="2747520" y="2933280"/>
              <a:ext cx="1357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 </a:t>
              </a:r>
              <a:r>
                <a:rPr b="1" lang="zh-CN" sz="5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文本框 20"/>
            <p:cNvSpPr/>
            <p:nvPr/>
          </p:nvSpPr>
          <p:spPr>
            <a:xfrm>
              <a:off x="3004920" y="222876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0"/>
            <p:cNvSpPr/>
            <p:nvPr/>
          </p:nvSpPr>
          <p:spPr>
            <a:xfrm>
              <a:off x="3004920" y="14288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24"/>
            <p:cNvSpPr/>
            <p:nvPr/>
          </p:nvSpPr>
          <p:spPr>
            <a:xfrm>
              <a:off x="3262320" y="176688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70"/>
            <p:cNvSpPr/>
            <p:nvPr/>
          </p:nvSpPr>
          <p:spPr>
            <a:xfrm>
              <a:off x="2719080" y="226692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45"/>
            <p:cNvSpPr/>
            <p:nvPr/>
          </p:nvSpPr>
          <p:spPr>
            <a:xfrm>
              <a:off x="2647800" y="17668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文本框 20"/>
            <p:cNvSpPr/>
            <p:nvPr/>
          </p:nvSpPr>
          <p:spPr>
            <a:xfrm>
              <a:off x="2757240" y="25430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zh-CN" sz="5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直接连接符 74"/>
            <p:cNvSpPr/>
            <p:nvPr/>
          </p:nvSpPr>
          <p:spPr>
            <a:xfrm>
              <a:off x="2719080" y="300492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77"/>
          <p:cNvGrpSpPr/>
          <p:nvPr/>
        </p:nvGrpSpPr>
        <p:grpSpPr>
          <a:xfrm>
            <a:off x="503280" y="1419120"/>
            <a:ext cx="1571760" cy="2046960"/>
            <a:chOff x="503280" y="1419120"/>
            <a:chExt cx="1571760" cy="2046960"/>
          </a:xfrm>
        </p:grpSpPr>
        <p:sp>
          <p:nvSpPr>
            <p:cNvPr id="1039" name="文本框 20"/>
            <p:cNvSpPr/>
            <p:nvPr/>
          </p:nvSpPr>
          <p:spPr>
            <a:xfrm>
              <a:off x="612720" y="2933280"/>
              <a:ext cx="1357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文本框 20"/>
            <p:cNvSpPr/>
            <p:nvPr/>
          </p:nvSpPr>
          <p:spPr>
            <a:xfrm>
              <a:off x="860400" y="22190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20"/>
            <p:cNvSpPr/>
            <p:nvPr/>
          </p:nvSpPr>
          <p:spPr>
            <a:xfrm>
              <a:off x="860400" y="141912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24"/>
            <p:cNvSpPr/>
            <p:nvPr/>
          </p:nvSpPr>
          <p:spPr>
            <a:xfrm>
              <a:off x="1108080" y="175716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70"/>
            <p:cNvSpPr/>
            <p:nvPr/>
          </p:nvSpPr>
          <p:spPr>
            <a:xfrm>
              <a:off x="574560" y="225720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文本框 45"/>
            <p:cNvSpPr/>
            <p:nvPr/>
          </p:nvSpPr>
          <p:spPr>
            <a:xfrm>
              <a:off x="503280" y="1757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20"/>
            <p:cNvSpPr/>
            <p:nvPr/>
          </p:nvSpPr>
          <p:spPr>
            <a:xfrm>
              <a:off x="612720" y="254268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74"/>
            <p:cNvSpPr/>
            <p:nvPr/>
          </p:nvSpPr>
          <p:spPr>
            <a:xfrm>
              <a:off x="574560" y="299520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椭圆 8"/>
          <p:cNvSpPr/>
          <p:nvPr/>
        </p:nvSpPr>
        <p:spPr>
          <a:xfrm>
            <a:off x="1057320" y="2289240"/>
            <a:ext cx="731880" cy="385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1"/>
          <p:cNvSpPr/>
          <p:nvPr/>
        </p:nvSpPr>
        <p:spPr>
          <a:xfrm>
            <a:off x="539640" y="3530520"/>
            <a:ext cx="165600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应是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34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积，而不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的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直接箭头连接符 12"/>
          <p:cNvCxnSpPr/>
          <p:nvPr/>
        </p:nvCxnSpPr>
        <p:spPr>
          <a:xfrm flipH="1">
            <a:off x="1401480" y="2684520"/>
            <a:ext cx="2160" cy="82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0" name="椭圆 13"/>
          <p:cNvSpPr/>
          <p:nvPr/>
        </p:nvSpPr>
        <p:spPr>
          <a:xfrm>
            <a:off x="2971800" y="2289240"/>
            <a:ext cx="952560" cy="3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2470320" y="3530520"/>
            <a:ext cx="159696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十位和百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没加进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2" name="直接箭头连接符 15"/>
          <p:cNvCxnSpPr/>
          <p:nvPr/>
        </p:nvCxnSpPr>
        <p:spPr>
          <a:xfrm flipH="1">
            <a:off x="3310920" y="2684520"/>
            <a:ext cx="1080" cy="82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3" name="椭圆 16"/>
          <p:cNvSpPr/>
          <p:nvPr/>
        </p:nvSpPr>
        <p:spPr>
          <a:xfrm>
            <a:off x="5396040" y="144792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4473720" y="3530520"/>
            <a:ext cx="204300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前两位不够除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商应写在个位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20"/>
          <p:cNvSpPr/>
          <p:nvPr/>
        </p:nvSpPr>
        <p:spPr>
          <a:xfrm>
            <a:off x="7280280" y="2639880"/>
            <a:ext cx="600120" cy="35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1"/>
          <p:cNvSpPr/>
          <p:nvPr/>
        </p:nvSpPr>
        <p:spPr>
          <a:xfrm>
            <a:off x="6762600" y="3530520"/>
            <a:ext cx="198612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余数等于除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商小了，应商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直接箭头连接符 22"/>
          <p:cNvCxnSpPr/>
          <p:nvPr/>
        </p:nvCxnSpPr>
        <p:spPr>
          <a:xfrm>
            <a:off x="7596000" y="3007800"/>
            <a:ext cx="1080" cy="505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58" name="组合 60"/>
          <p:cNvGrpSpPr/>
          <p:nvPr/>
        </p:nvGrpSpPr>
        <p:grpSpPr>
          <a:xfrm>
            <a:off x="4502160" y="1363680"/>
            <a:ext cx="1984320" cy="1752120"/>
            <a:chOff x="4502160" y="1363680"/>
            <a:chExt cx="1984320" cy="1752120"/>
          </a:xfrm>
        </p:grpSpPr>
        <p:sp>
          <p:nvSpPr>
            <p:cNvPr id="1059" name="文本框 24"/>
            <p:cNvSpPr/>
            <p:nvPr/>
          </p:nvSpPr>
          <p:spPr>
            <a:xfrm>
              <a:off x="5396040" y="136368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文本框 25"/>
            <p:cNvSpPr/>
            <p:nvPr/>
          </p:nvSpPr>
          <p:spPr>
            <a:xfrm>
              <a:off x="5132160" y="215100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zh-CN" sz="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直接连接符 45"/>
            <p:cNvSpPr/>
            <p:nvPr/>
          </p:nvSpPr>
          <p:spPr>
            <a:xfrm>
              <a:off x="5095800" y="2652840"/>
              <a:ext cx="10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文本框 25"/>
            <p:cNvSpPr/>
            <p:nvPr/>
          </p:nvSpPr>
          <p:spPr>
            <a:xfrm>
              <a:off x="5634000" y="258300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组合 41"/>
            <p:cNvGrpSpPr/>
            <p:nvPr/>
          </p:nvGrpSpPr>
          <p:grpSpPr>
            <a:xfrm>
              <a:off x="4502160" y="1816920"/>
              <a:ext cx="1916280" cy="532800"/>
              <a:chOff x="4502160" y="1816920"/>
              <a:chExt cx="1916280" cy="532800"/>
            </a:xfrm>
          </p:grpSpPr>
          <p:sp>
            <p:nvSpPr>
              <p:cNvPr id="1064" name="Text Box 29"/>
              <p:cNvSpPr/>
              <p:nvPr/>
            </p:nvSpPr>
            <p:spPr>
              <a:xfrm>
                <a:off x="4502160" y="1816920"/>
                <a:ext cx="6634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mbria"/>
                    <a:ea typeface="黑体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 Box 30"/>
              <p:cNvSpPr/>
              <p:nvPr/>
            </p:nvSpPr>
            <p:spPr>
              <a:xfrm>
                <a:off x="5140440" y="1816920"/>
                <a:ext cx="1278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mbria"/>
                    <a:ea typeface="黑体"/>
                  </a:rPr>
                  <a:t>3 6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8720" y="182556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7" name="Rectangle 77"/>
            <p:cNvSpPr/>
            <p:nvPr/>
          </p:nvSpPr>
          <p:spPr>
            <a:xfrm>
              <a:off x="5614200" y="2173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 Math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68" name="直接箭头连接符 18"/>
          <p:cNvCxnSpPr/>
          <p:nvPr/>
        </p:nvCxnSpPr>
        <p:spPr>
          <a:xfrm>
            <a:off x="5439960" y="1750680"/>
            <a:ext cx="1080" cy="1762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2"/>
          <p:cNvSpPr/>
          <p:nvPr/>
        </p:nvSpPr>
        <p:spPr>
          <a:xfrm>
            <a:off x="854640" y="473040"/>
            <a:ext cx="4961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不计算，直接写出下面两题的积或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×39=585                792÷24=3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0×39=                   396÷1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×390=                   1584÷4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"/>
          <p:cNvSpPr/>
          <p:nvPr/>
        </p:nvSpPr>
        <p:spPr>
          <a:xfrm>
            <a:off x="1920240" y="2782800"/>
            <a:ext cx="5094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王阿姨的花店上月卖出几种花的情况如下表，请在空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中填上适当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1044720" y="3790800"/>
          <a:ext cx="6850080" cy="2552760"/>
        </p:xfrm>
        <a:graphic>
          <a:graphicData uri="http://schemas.openxmlformats.org/drawingml/2006/table">
            <a:tbl>
              <a:tblPr/>
              <a:tblGrid>
                <a:gridCol w="1711440"/>
                <a:gridCol w="1712880"/>
                <a:gridCol w="1711080"/>
                <a:gridCol w="1714680"/>
              </a:tblGrid>
              <a:tr h="856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花   名    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价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茉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仙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杜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2" name="Rectangle 179"/>
          <p:cNvSpPr/>
          <p:nvPr/>
        </p:nvSpPr>
        <p:spPr>
          <a:xfrm>
            <a:off x="2217600" y="16383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79"/>
          <p:cNvSpPr/>
          <p:nvPr/>
        </p:nvSpPr>
        <p:spPr>
          <a:xfrm>
            <a:off x="5105520" y="1638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79"/>
          <p:cNvSpPr/>
          <p:nvPr/>
        </p:nvSpPr>
        <p:spPr>
          <a:xfrm>
            <a:off x="221760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79"/>
          <p:cNvSpPr/>
          <p:nvPr/>
        </p:nvSpPr>
        <p:spPr>
          <a:xfrm>
            <a:off x="530388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79"/>
          <p:cNvSpPr/>
          <p:nvPr/>
        </p:nvSpPr>
        <p:spPr>
          <a:xfrm>
            <a:off x="3365640" y="501156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79"/>
          <p:cNvSpPr/>
          <p:nvPr/>
        </p:nvSpPr>
        <p:spPr>
          <a:xfrm>
            <a:off x="5087880" y="43657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79"/>
          <p:cNvSpPr/>
          <p:nvPr/>
        </p:nvSpPr>
        <p:spPr>
          <a:xfrm>
            <a:off x="6738840" y="565776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0" name="TextBox 3"/>
          <p:cNvSpPr/>
          <p:nvPr/>
        </p:nvSpPr>
        <p:spPr>
          <a:xfrm>
            <a:off x="466560" y="11736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实践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"/>
          <p:cNvSpPr/>
          <p:nvPr/>
        </p:nvSpPr>
        <p:spPr>
          <a:xfrm>
            <a:off x="1104480" y="477720"/>
            <a:ext cx="609696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，看谁算得都对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0×8=           120×6=          72-4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20÷6=          450÷5=          360+9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5×16=           11×60=          9×50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810÷90=         630÷3=          560÷4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23×4=           54÷3=           7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60÷30=          18×3=           250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下面各题，并且验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125×43      665÷25      54×69      168÷32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952÷28      240×36      390÷60     207×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79"/>
          <p:cNvSpPr/>
          <p:nvPr/>
        </p:nvSpPr>
        <p:spPr>
          <a:xfrm>
            <a:off x="1716120" y="10652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79"/>
          <p:cNvSpPr/>
          <p:nvPr/>
        </p:nvSpPr>
        <p:spPr>
          <a:xfrm>
            <a:off x="4657680" y="10652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79"/>
          <p:cNvSpPr/>
          <p:nvPr/>
        </p:nvSpPr>
        <p:spPr>
          <a:xfrm>
            <a:off x="7169040" y="10652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179"/>
          <p:cNvSpPr/>
          <p:nvPr/>
        </p:nvSpPr>
        <p:spPr>
          <a:xfrm>
            <a:off x="1930320" y="16383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79"/>
          <p:cNvSpPr/>
          <p:nvPr/>
        </p:nvSpPr>
        <p:spPr>
          <a:xfrm>
            <a:off x="4610160" y="163044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79"/>
          <p:cNvSpPr/>
          <p:nvPr/>
        </p:nvSpPr>
        <p:spPr>
          <a:xfrm>
            <a:off x="7343640" y="16257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79"/>
          <p:cNvSpPr/>
          <p:nvPr/>
        </p:nvSpPr>
        <p:spPr>
          <a:xfrm>
            <a:off x="1738440" y="21906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79"/>
          <p:cNvSpPr/>
          <p:nvPr/>
        </p:nvSpPr>
        <p:spPr>
          <a:xfrm>
            <a:off x="465768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79"/>
          <p:cNvSpPr/>
          <p:nvPr/>
        </p:nvSpPr>
        <p:spPr>
          <a:xfrm>
            <a:off x="716904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79"/>
          <p:cNvSpPr/>
          <p:nvPr/>
        </p:nvSpPr>
        <p:spPr>
          <a:xfrm>
            <a:off x="2075040" y="27874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179"/>
          <p:cNvSpPr/>
          <p:nvPr/>
        </p:nvSpPr>
        <p:spPr>
          <a:xfrm>
            <a:off x="4657680" y="278748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79"/>
          <p:cNvSpPr/>
          <p:nvPr/>
        </p:nvSpPr>
        <p:spPr>
          <a:xfrm>
            <a:off x="7527960" y="27874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79"/>
          <p:cNvSpPr/>
          <p:nvPr/>
        </p:nvSpPr>
        <p:spPr>
          <a:xfrm>
            <a:off x="1716120" y="33606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79"/>
          <p:cNvSpPr/>
          <p:nvPr/>
        </p:nvSpPr>
        <p:spPr>
          <a:xfrm>
            <a:off x="4441680" y="33606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79"/>
          <p:cNvSpPr/>
          <p:nvPr/>
        </p:nvSpPr>
        <p:spPr>
          <a:xfrm>
            <a:off x="7169040" y="33606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79"/>
          <p:cNvSpPr/>
          <p:nvPr/>
        </p:nvSpPr>
        <p:spPr>
          <a:xfrm>
            <a:off x="1930320" y="39355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79"/>
          <p:cNvSpPr/>
          <p:nvPr/>
        </p:nvSpPr>
        <p:spPr>
          <a:xfrm>
            <a:off x="4441680" y="39355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79"/>
          <p:cNvSpPr/>
          <p:nvPr/>
        </p:nvSpPr>
        <p:spPr>
          <a:xfrm>
            <a:off x="7464600" y="3913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79"/>
          <p:cNvSpPr/>
          <p:nvPr/>
        </p:nvSpPr>
        <p:spPr>
          <a:xfrm>
            <a:off x="1716120" y="5083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79"/>
          <p:cNvSpPr/>
          <p:nvPr/>
        </p:nvSpPr>
        <p:spPr>
          <a:xfrm>
            <a:off x="378000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79"/>
          <p:cNvSpPr/>
          <p:nvPr/>
        </p:nvSpPr>
        <p:spPr>
          <a:xfrm>
            <a:off x="571824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79"/>
          <p:cNvSpPr/>
          <p:nvPr/>
        </p:nvSpPr>
        <p:spPr>
          <a:xfrm>
            <a:off x="779796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79"/>
          <p:cNvSpPr/>
          <p:nvPr/>
        </p:nvSpPr>
        <p:spPr>
          <a:xfrm>
            <a:off x="1698480" y="564048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79"/>
          <p:cNvSpPr/>
          <p:nvPr/>
        </p:nvSpPr>
        <p:spPr>
          <a:xfrm>
            <a:off x="378000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79"/>
          <p:cNvSpPr/>
          <p:nvPr/>
        </p:nvSpPr>
        <p:spPr>
          <a:xfrm>
            <a:off x="586116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79"/>
          <p:cNvSpPr/>
          <p:nvPr/>
        </p:nvSpPr>
        <p:spPr>
          <a:xfrm>
            <a:off x="779796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1279800" y="907920"/>
            <a:ext cx="6327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不计算，直接写出下面两题的积或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5÷9=5         28×14=392         840÷24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90÷18=         280×14=            840÷1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180÷36=         28×140=           1680÷24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欣欣家今年前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月的电话费是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，平均每个月电话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多少元？照这样计算，一年的电话费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79"/>
          <p:cNvSpPr/>
          <p:nvPr/>
        </p:nvSpPr>
        <p:spPr>
          <a:xfrm>
            <a:off x="1930320" y="20700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79"/>
          <p:cNvSpPr/>
          <p:nvPr/>
        </p:nvSpPr>
        <p:spPr>
          <a:xfrm>
            <a:off x="1914480" y="262728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79"/>
          <p:cNvSpPr/>
          <p:nvPr/>
        </p:nvSpPr>
        <p:spPr>
          <a:xfrm>
            <a:off x="4641840" y="205272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79"/>
          <p:cNvSpPr/>
          <p:nvPr/>
        </p:nvSpPr>
        <p:spPr>
          <a:xfrm>
            <a:off x="4641840" y="26272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79"/>
          <p:cNvSpPr/>
          <p:nvPr/>
        </p:nvSpPr>
        <p:spPr>
          <a:xfrm>
            <a:off x="7797960" y="205272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79"/>
          <p:cNvSpPr/>
          <p:nvPr/>
        </p:nvSpPr>
        <p:spPr>
          <a:xfrm>
            <a:off x="7797960" y="26272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79"/>
          <p:cNvSpPr/>
          <p:nvPr/>
        </p:nvSpPr>
        <p:spPr>
          <a:xfrm>
            <a:off x="695160" y="4749840"/>
            <a:ext cx="33973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÷4=75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×12=9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平均每个月电话费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，一年的电话费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2"/>
          <p:cNvSpPr/>
          <p:nvPr/>
        </p:nvSpPr>
        <p:spPr>
          <a:xfrm>
            <a:off x="1136520" y="1060560"/>
            <a:ext cx="611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法要从低位起，两位因数两次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的定位是关键，用谁去乘对着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次乘积加一起，末尾有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先不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完积尾要加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有几个就加几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随因数来变化，方向一致绝不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时间来相乘，它们的积是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整数除法高位起，除数两位看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位不够看三位，除到哪位商哪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余数要比除数小，不够商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零占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除数和除数，同时乘除一个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同时乘除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算，商的大小不会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44Z</dcterms:modified>
  <cp:revision>2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